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B6BC-6CE1-44A7-949C-8DEFA8C0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4581-3097-4451-AFE6-3343BD51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FECF-3106-4874-8365-EF967BE1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ECD0-8F15-4DCB-B4C2-E59A9827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1432-0F53-4C25-8F5C-3FFB0FC1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63CF-8FAF-4780-BED3-C238EF4F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5B59-7D46-4721-A26E-61159FEC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D4FD-E962-4C22-95CF-4E12F2D1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0EBF-19DA-4F75-9029-B6159A98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FF8F-0113-413E-BF92-B1A0CB41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815B-86EF-4172-BD3C-AF06B27B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66839-F7A5-4F49-8D71-A6EB2A98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ACEE-7BE2-4C7D-98BC-AB91659D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F9C0-51D6-4859-874B-35FD701E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7BEE-9D0E-4F19-981A-CAA9F9FB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933E-E989-4E35-94F7-14245732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AA31-DF01-49DB-B13C-59D2216D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B128-A91B-4DD7-93A0-2C8B017D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1809-9587-457F-84FF-B29C87EB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14D0-0EEC-4E15-9C3C-DF4DD3B4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300F-7A60-409B-A476-6BEDE46B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5C3F-2D79-4775-AAAF-854A50A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B589-928B-40F5-BEBD-205B7A8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82E9-AD7E-44B1-8948-906D5E4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5ECF-4D30-4C30-8DDF-7A1DFB7734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EC73-E15E-4C15-B56D-84B34AD59D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cc"/>
                </a:solidFill>
                <a:latin typeface="Tahoma"/>
              </a:rPr>
              <a:t>Cinquain Poems</a:t>
            </a:r>
            <a:endParaRPr b="0" lang="en-US" sz="1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ffffcc"/>
                </a:solidFill>
                <a:latin typeface="Tahoma"/>
              </a:rPr>
              <a:t>A Cinquain is a five line poem</a:t>
            </a:r>
            <a:endParaRPr b="0" lang="en-US" sz="10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ord – subject or no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words – adjectives that describe lin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words – verbs related to line 1, ending in “ing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words – feelings or complete sentence that relates to lin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ord – synonym or word that sums up lin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66680" y="1329120"/>
            <a:ext cx="88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Dinosau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Lived once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Discovering, aging, dy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Only dust and drea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Remai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526320" y="1558080"/>
            <a:ext cx="8096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paghett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essy, spic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lurping, sliding, fall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Between plate and mou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Deliciou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5:42:43Z</dcterms:created>
  <dc:creator>DSPEARS</dc:creator>
  <dc:description/>
  <dc:language>en-US</dc:language>
  <cp:lastModifiedBy>Kimberly Leiske</cp:lastModifiedBy>
  <dcterms:modified xsi:type="dcterms:W3CDTF">2011-02-11T08:37:45Z</dcterms:modified>
  <cp:revision>5</cp:revision>
  <dc:subject/>
  <dc:title>Cinquain Poems</dc:title>
</cp:coreProperties>
</file>